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5BF-34AD-4F0D-BE7C-9980C3B6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F1C-D0B4-4D21-81B6-0F545184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556-3F92-4BCF-9619-3F856DE9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A36-271B-4367-980A-E5A78456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5634-FDCC-4CEE-BCE8-9744836B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7EBA-1F27-448F-9976-4AE05E00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9BE7-7258-42B7-B2F9-19BEC064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F36B-7C7E-4167-944A-92702D84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DCFB-0B31-40B1-9860-B22AF73C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CD92-5BF4-4E30-B1AC-6610C7F1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4973-7F78-4C93-8B2A-5301FA3B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F72-8166-41EA-9C78-871A2FD6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98DD-2251-4A7E-B01C-3AE5E9A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35AD-3F6D-4B13-8D99-D8E99C16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38A3-C2BD-4925-ABB7-FA726267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D3A1-E24B-430F-A378-24CC24F7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BDA4-5E7D-4295-B342-C3564254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28757-D03F-4341-8C88-27517261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928B1-C9A3-4EAF-9C63-A4BBE38F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EC54A-67F8-401D-95A5-328CDE1A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49670-769A-44B9-81BB-0AA4407C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07807-6424-4E00-A378-64EA13A5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63A-59EE-4BBF-B739-0A0B394D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28FD5-552C-49A7-B8B2-DE2B364B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46163-10E4-4BF3-9793-D6A9B94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44D26-255A-4DDE-B528-B9FBDF78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62A01-7FD0-435B-B88C-41944D45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60B9C-4A78-4D3C-B0E5-5F50DA3A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009DD-6DB6-495F-87C1-0B32E128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28BAD-F846-4967-BEB1-4EC75414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D6431-15D8-4276-9318-6858B524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CD66-D1DB-4F72-8824-3EFDA9C8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7C01-7CA9-4A36-878E-5BC95835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E51-AA98-4D72-91F3-6F5DDDC9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2E157-8516-4E82-9F9D-C0E05575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70EAF-52C1-43AC-A230-F2F47E0F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0B1E9-15FD-48F9-B07C-9039554D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BE60-8179-4B90-9F6C-A1FE5829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20F56-805B-44E2-A135-3EC6A1CA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28B10-F242-4F6B-A9F5-A7182B8D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9DE7-7B59-4E99-8576-0E75EF76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2CB7-6D06-41B7-B6A1-E16EE538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11174-D498-4379-B77C-75D2E4AB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52F-51F0-44AA-B270-CBD0E0CF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7C6-E48A-437E-A183-3C175E7C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E65-E2FB-476F-8CD1-7B794DB1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444-A42D-4885-BA92-988E0EEB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41F-6BB0-4EA3-8135-C1C66851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E6DA-21E3-43CA-9EFF-A64DB3C541C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78C2-612D-4BE0-9BE4-98900D1368F8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CE8F-A9BE-455D-9B14-14986EC635D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49B7-1F6D-47B7-AA4A-ECBB77F1BBF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YOU need a JOURNA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Journals/Magazine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Journal/magazin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0" y="-457200"/>
            <a:ext cx="8610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here are these journals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ower Library: log on through the Library Link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cience Full Text Selec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mnifile Select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n the search screen select the full text featur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annot be used from hom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itations provided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here are these journals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ritannica Online K-12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an be used from hom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itations NOT provided. Must be done by hand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ook in the “Expand your research” box after you perform a database search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t is located on the right part of the pag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8:04:06Z</dcterms:created>
  <dc:creator>Albright, Janice</dc:creator>
  <dc:description/>
  <dc:language>en-US</dc:language>
  <cp:lastModifiedBy>Janice</cp:lastModifiedBy>
  <dcterms:modified xsi:type="dcterms:W3CDTF">2012-05-07T10:03:54Z</dcterms:modified>
  <cp:revision>7</cp:revision>
  <dc:subject/>
  <dc:title>YOU need a JOURNAL</dc:title>
</cp:coreProperties>
</file>